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C1D-E2B8-45D3-996A-199A9552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254-D6D5-4552-B6FD-D1BF731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4F2-F94F-4EE6-A3B2-B4E600F8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249-5771-4F99-A78C-A775574C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1B02-D8FF-4BF5-83D7-AF58B9F0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DFB2-B318-4ED8-9479-E682F3A5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C8A1-E5F5-4C45-8B77-C0E1356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6825E-B24C-4B4D-B1B7-C486D3B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C471-89F2-46EB-9219-E7F25E86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0C89-186D-431F-B3BD-3FCFA70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72CC-AE5B-4A89-9326-AB6C07B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6C2-8448-4245-9AF7-83FF5B47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ED5D8-9621-45E9-89DD-DFB629B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CC398-5104-4BAA-9982-FDAFF71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DD0FD-328D-4DA1-8628-293244DA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C24A-57AB-4A10-B1B3-05A974B0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DE2CD-4008-46EC-81C1-01EF2579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A3F-8E04-4B73-8E1B-01E4CC2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269-50B2-4D96-BC85-A6F3A41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D61-52CC-4D02-B702-DCD9C236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FCC-36EE-4D5D-8D8A-692D289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BA4-3A29-4128-9AF5-4E99A31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856-C536-45A5-B963-AA81691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F29-2EAE-4B3E-98BC-B815D06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8BEE-D1F4-4014-8F04-1939E14D3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D23B-34CB-48C2-B110-C8CEC403B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Island Surviva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76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ric Frangenhe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ercising your Thinking and Surviv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12800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How?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ilent Round Robin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Teams of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One sheet of paper per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Multiple ans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wap – read – add ideas –no rep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Choosing your valuable i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Teams of 4-5, but discuss and decide in pai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trategy- Tournament Prioritis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Exciting Writ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Y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What does i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Look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ound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Feel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68880" y="1700280"/>
            <a:ext cx="2943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Abandon Ship’ to ‘The Landing’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bandon 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ea Trip in the Lifebo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Land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3854520"/>
            <a:ext cx="442764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Exciting Writ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Use the materials from your Y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3 paragrap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Taking Stock of the Isl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ush tropical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untain and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ean water in 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conut trees and Ban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owling noises from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human skele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moke from the moun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77080" y="5373720"/>
            <a:ext cx="2016000" cy="12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11280" y="5359320"/>
            <a:ext cx="237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92360" y="537696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600" spc="-1" strike="noStrike">
                <a:solidFill>
                  <a:srgbClr val="ffff00"/>
                </a:solidFill>
                <a:latin typeface="Arial"/>
              </a:rPr>
              <a:t>HOW? SWOT Analysi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05120"/>
          <a:ext cx="8229240" cy="4114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portuniti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Establish your F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se your SW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ou may add 4 other features to your map (eg fresh water la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Decide where to place it on your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638680" y="1916280"/>
            <a:ext cx="30988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Design your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large sheets of paper and tex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your plans, include, with lab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ort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ater collection and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od g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mensions in me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fensive apparatus from local and importe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w? Six Thinking Hats, Concept maps and C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What do you think of your pla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16570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1905120"/>
          <a:ext cx="6781680" cy="3179520"/>
        </p:xfrm>
        <a:graphic>
          <a:graphicData uri="http://schemas.openxmlformats.org/drawingml/2006/table">
            <a:tbl>
              <a:tblPr/>
              <a:tblGrid>
                <a:gridCol w="2406600"/>
                <a:gridCol w="2187360"/>
                <a:gridCol w="21877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 close to t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 some t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we make a lookou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56000" y="5300640"/>
            <a:ext cx="480348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240360" cy="2450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184640"/>
            <a:ext cx="3780000" cy="267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38240" y="0"/>
            <a:ext cx="2681280" cy="328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2000" y="201600"/>
            <a:ext cx="313200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156360" y="3567240"/>
            <a:ext cx="298764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at is it ab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Peer Assessment of Community Pl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wap plans and one Explainer with another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 minutes to examine, analyse and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3 h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48320" y="1916280"/>
          <a:ext cx="4038480" cy="41763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06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esigning a set of Island Community Rules –part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urpose of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aily living and peaceful co-existence, avoid conflict, survival, respect for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1. Use a Noisy Round Robin to list all soci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’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problems today in Australia and else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2. Categorise and Classify the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3- List these on White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45440" y="260280"/>
            <a:ext cx="179856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esigning a set of Island Community Rules –step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 data on whit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ategy – 1:4:P:C: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: Each member writes own rules (Shhhhh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: Share your ideas in 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: Get your best 10 rules on a larg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: Circle room to get bette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: Return and refine then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Which is the best set of ru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ategy – Decision Making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ach team will be given two sets of rules to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factors by which to judge these sets of rules, eg, Teamwork, Fairness, Protecting Environment (what els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Creating a story about survival on the is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trategy – Random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30508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ffffff"/>
                </a:solidFill>
                <a:latin typeface="Arial"/>
              </a:rPr>
              <a:t>Lesson Goal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magination and Creative Wr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m Work and Problem 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se of Thinking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dging yourself and 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ecis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ing F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Class set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ams of 4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e table pe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up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ri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ite Hat Thinker – What are all th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llow Hat Thinker – Why this is a good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lack Hat Thinker – Why this is a poor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een Hat Thinker – What are the new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World War Two 1939-4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ied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K, Commonwealth countries (Cricket, Rugby Union), France, USA, US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xis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ermany, Italy and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Evacu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303200"/>
            <a:ext cx="777528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From Venezuela to Flori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95272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5272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35640" y="3255840"/>
            <a:ext cx="34574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3284640"/>
            <a:ext cx="4248000" cy="300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87640" y="19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Danger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Torpedo 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7560" y="1700280"/>
            <a:ext cx="3152880" cy="453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48974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Abandon Shi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338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h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4 x 13 year 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aptain mortally wou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rew all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5 minutes to get to life bo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ny islands near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rab all survival materials you can coll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37160" y="2637000"/>
            <a:ext cx="2706840" cy="2141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27640" y="4919760"/>
            <a:ext cx="2571840" cy="193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940360" y="200160"/>
            <a:ext cx="3203640" cy="209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0:56:09Z</dcterms:created>
  <dc:creator>Eric  Frangenheim</dc:creator>
  <dc:description/>
  <dc:language>en-US</dc:language>
  <cp:lastModifiedBy> </cp:lastModifiedBy>
  <dcterms:modified xsi:type="dcterms:W3CDTF">2006-08-13T22:01:27Z</dcterms:modified>
  <cp:revision>19</cp:revision>
  <dc:subject/>
  <dc:title>Hale Island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3725856</vt:r8>
  </property>
  <property fmtid="{D5CDD505-2E9C-101B-9397-08002B2CF9AE}" pid="3" name="_AuthorEmail">
    <vt:lpwstr>ericf@rodineducation.com.au</vt:lpwstr>
  </property>
  <property fmtid="{D5CDD505-2E9C-101B-9397-08002B2CF9AE}" pid="4" name="_AuthorEmailDisplayName">
    <vt:lpwstr>Eric Frangenheim</vt:lpwstr>
  </property>
  <property fmtid="{D5CDD505-2E9C-101B-9397-08002B2CF9AE}" pid="5" name="_EmailSubject">
    <vt:lpwstr>PPoint for Year 5-6</vt:lpwstr>
  </property>
  <property fmtid="{D5CDD505-2E9C-101B-9397-08002B2CF9AE}" pid="6" name="_ReviewingToolsShownOnce">
    <vt:lpwstr/>
  </property>
</Properties>
</file>